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B1F-0A51-400A-AF20-61B19D56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499-7550-4823-BDEB-775C70ED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9C1-ECC3-4F02-8A51-CCE228AF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3DB-335F-477E-88F4-2E104468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46E-3413-4F48-9710-6AE639BF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2F8-3E35-4751-BE2B-33C54D4D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101-35A2-40E4-8B5E-6D4390B7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BD8-FFF5-4133-8E6B-7C242C6D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7B9-832C-4481-9974-E3B4ABA1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70E-90D4-4DA0-BF98-D6CA7D42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6C8-B66C-4D2F-9C2B-CC5965F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8BC-335A-40FE-9914-52FAE095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68B0-E4B4-4EC7-B1D6-7AAFBA283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422280" y="3727440"/>
            <a:ext cx="4140360" cy="6480"/>
          </a:xfrm>
          <a:custGeom>
            <a:avLst/>
            <a:gdLst>
              <a:gd name="textAreaLeft" fmla="*/ 0 w 4140360"/>
              <a:gd name="textAreaRight" fmla="*/ 4140720 w 4140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608" h="4">
                <a:moveTo>
                  <a:pt x="2608" y="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5"/>
          <p:cNvSpPr/>
          <p:nvPr/>
        </p:nvSpPr>
        <p:spPr>
          <a:xfrm>
            <a:off x="4579920" y="112680"/>
            <a:ext cx="2341440" cy="363708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3637080"/>
              <a:gd name="textAreaBottom" fmla="*/ 3637080 h 3637080"/>
            </a:gdLst>
            <a:ahLst/>
            <a:rect l="textAreaLeft" t="textAreaTop" r="textAreaRight" b="textAreaBottom"/>
            <a:pathLst>
              <a:path w="1475" h="2291">
                <a:moveTo>
                  <a:pt x="0" y="2291"/>
                </a:moveTo>
                <a:lnTo>
                  <a:pt x="1475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2"/>
          <p:cNvSpPr/>
          <p:nvPr/>
        </p:nvSpPr>
        <p:spPr>
          <a:xfrm>
            <a:off x="4557600" y="3713040"/>
            <a:ext cx="3573720" cy="25196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2519640"/>
              <a:gd name="textAreaBottom" fmla="*/ 2520000 h 2519640"/>
            </a:gdLst>
            <a:ahLst/>
            <a:rect l="textAreaLeft" t="textAreaTop" r="textAreaRight" b="textAreaBottom"/>
            <a:pathLst>
              <a:path w="2251" h="1587">
                <a:moveTo>
                  <a:pt x="0" y="0"/>
                </a:moveTo>
                <a:lnTo>
                  <a:pt x="2251" y="158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60" y="-92880"/>
            <a:ext cx="22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81440" y="291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52280" y="251460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  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rc 9"/>
          <p:cNvSpPr/>
          <p:nvPr/>
        </p:nvSpPr>
        <p:spPr>
          <a:xfrm>
            <a:off x="5029200" y="3048120"/>
            <a:ext cx="304920" cy="1218960"/>
          </a:xfrm>
          <a:custGeom>
            <a:avLst/>
            <a:gdLst>
              <a:gd name="textAreaLeft" fmla="*/ 0 w 304920"/>
              <a:gd name="textAreaRight" fmla="*/ 305280 w 304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65120" y="4950000"/>
            <a:ext cx="8359920" cy="14040"/>
          </a:xfrm>
          <a:custGeom>
            <a:avLst/>
            <a:gdLst>
              <a:gd name="textAreaLeft" fmla="*/ 0 w 8359920"/>
              <a:gd name="textAreaRight" fmla="*/ 8360280 w 8359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5266" h="9">
                <a:moveTo>
                  <a:pt x="0" y="0"/>
                </a:moveTo>
                <a:lnTo>
                  <a:pt x="5266" y="9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581040" y="3048120"/>
            <a:ext cx="3943440" cy="189072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1890720"/>
              <a:gd name="textAreaBottom" fmla="*/ 1891080 h 1890720"/>
            </a:gdLst>
            <a:ahLst/>
            <a:rect l="textAreaLeft" t="textAreaTop" r="textAreaRight" b="textAreaBottom"/>
            <a:pathLst>
              <a:path w="2484" h="1191">
                <a:moveTo>
                  <a:pt x="0" y="0"/>
                </a:moveTo>
                <a:lnTo>
                  <a:pt x="2484" y="1191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160" y="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364120" y="414504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1"/>
          <p:cNvSpPr/>
          <p:nvPr/>
        </p:nvSpPr>
        <p:spPr>
          <a:xfrm>
            <a:off x="4114800" y="3505320"/>
            <a:ext cx="838080" cy="838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711360" y="3933720"/>
            <a:ext cx="7503840" cy="14400"/>
          </a:xfrm>
          <a:custGeom>
            <a:avLst/>
            <a:gdLst>
              <a:gd name="textAreaLeft" fmla="*/ 0 w 7503840"/>
              <a:gd name="textAreaRight" fmla="*/ 7504200 w 7503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727" h="9">
                <a:moveTo>
                  <a:pt x="0" y="9"/>
                </a:moveTo>
                <a:lnTo>
                  <a:pt x="4727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4543560" y="479520"/>
            <a:ext cx="14040" cy="5979960"/>
          </a:xfrm>
          <a:custGeom>
            <a:avLst/>
            <a:gdLst>
              <a:gd name="textAreaLeft" fmla="*/ 0 w 14040"/>
              <a:gd name="textAreaRight" fmla="*/ 14400 w 14040"/>
              <a:gd name="textAreaTop" fmla="*/ 0 h 5979960"/>
              <a:gd name="textAreaBottom" fmla="*/ 5980320 h 5979960"/>
            </a:gdLst>
            <a:ahLst/>
            <a:rect l="textAreaLeft" t="textAreaTop" r="textAreaRight" b="textAreaBottom"/>
            <a:pathLst>
              <a:path w="9" h="3767">
                <a:moveTo>
                  <a:pt x="9" y="0"/>
                </a:moveTo>
                <a:lnTo>
                  <a:pt x="0" y="376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160" y="-9288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651120" y="2428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447920" y="2437200"/>
            <a:ext cx="657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24240" y="4144320"/>
            <a:ext cx="608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6"/>
          <p:cNvSpPr/>
          <p:nvPr/>
        </p:nvSpPr>
        <p:spPr>
          <a:xfrm>
            <a:off x="5181480" y="3513240"/>
            <a:ext cx="3497400" cy="144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203" h="1">
                <a:moveTo>
                  <a:pt x="0" y="0"/>
                </a:moveTo>
                <a:lnTo>
                  <a:pt x="2203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5181480" y="609480"/>
            <a:ext cx="1135080" cy="29386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2938680"/>
              <a:gd name="textAreaBottom" fmla="*/ 2938680 h 2938680"/>
            </a:gdLst>
            <a:ahLst/>
            <a:rect l="textAreaLeft" t="textAreaTop" r="textAreaRight" b="textAreaBottom"/>
            <a:pathLst>
              <a:path w="715" h="1851">
                <a:moveTo>
                  <a:pt x="0" y="1851"/>
                </a:moveTo>
                <a:lnTo>
                  <a:pt x="71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1465200" y="3513240"/>
            <a:ext cx="3730680" cy="1320840"/>
          </a:xfrm>
          <a:custGeom>
            <a:avLst/>
            <a:gdLst>
              <a:gd name="textAreaLeft" fmla="*/ 0 w 3730680"/>
              <a:gd name="textAreaRight" fmla="*/ 3730680 w 37306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2350" h="832">
                <a:moveTo>
                  <a:pt x="2350" y="0"/>
                </a:moveTo>
                <a:lnTo>
                  <a:pt x="0" y="832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19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0" y="-9216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1800" y="2460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rc 17"/>
          <p:cNvSpPr/>
          <p:nvPr/>
        </p:nvSpPr>
        <p:spPr>
          <a:xfrm>
            <a:off x="5486400" y="2819520"/>
            <a:ext cx="380880" cy="685800"/>
          </a:xfrm>
          <a:custGeom>
            <a:avLst/>
            <a:gdLst>
              <a:gd name="textAreaLeft" fmla="*/ 0 w 380880"/>
              <a:gd name="textAreaRight" fmla="*/ 381240 w 380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rc 18"/>
          <p:cNvSpPr/>
          <p:nvPr/>
        </p:nvSpPr>
        <p:spPr>
          <a:xfrm flipH="1">
            <a:off x="4572000" y="2819520"/>
            <a:ext cx="838080" cy="9144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281240" y="46260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105520" y="35053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54680" y="3581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8367840" y="34034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539040" y="206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762120" y="548640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066680" y="5540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BD +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1066680" y="563868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27"/>
              <p:cNvSpPr txBox="1"/>
              <p:nvPr/>
            </p:nvSpPr>
            <p:spPr>
              <a:xfrm>
                <a:off x="3733920" y="5638680"/>
                <a:ext cx="761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 Box 29"/>
          <p:cNvSpPr/>
          <p:nvPr/>
        </p:nvSpPr>
        <p:spPr>
          <a:xfrm>
            <a:off x="4344480" y="5562720"/>
            <a:ext cx="36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BC = 20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 rot="18199200">
            <a:off x="4647600" y="1218960"/>
            <a:ext cx="23623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6"/>
          <p:cNvSpPr/>
          <p:nvPr/>
        </p:nvSpPr>
        <p:spPr>
          <a:xfrm>
            <a:off x="957240" y="3338640"/>
            <a:ext cx="4064040" cy="14040"/>
          </a:xfrm>
          <a:custGeom>
            <a:avLst/>
            <a:gdLst>
              <a:gd name="textAreaLeft" fmla="*/ 0 w 4064040"/>
              <a:gd name="textAreaRight" fmla="*/ 4064400 w 4064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560" h="9">
                <a:moveTo>
                  <a:pt x="2560" y="9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5021280" y="449280"/>
            <a:ext cx="1946160" cy="2889360"/>
          </a:xfrm>
          <a:custGeom>
            <a:avLst/>
            <a:gdLst>
              <a:gd name="textAreaLeft" fmla="*/ 0 w 1946160"/>
              <a:gd name="textAreaRight" fmla="*/ 1946160 w 1946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226" h="1820">
                <a:moveTo>
                  <a:pt x="0" y="1820"/>
                </a:moveTo>
                <a:lnTo>
                  <a:pt x="1226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4"/>
          <p:cNvSpPr/>
          <p:nvPr/>
        </p:nvSpPr>
        <p:spPr>
          <a:xfrm>
            <a:off x="4964040" y="3338640"/>
            <a:ext cx="2684520" cy="278604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1691" h="1755">
                <a:moveTo>
                  <a:pt x="0" y="0"/>
                </a:moveTo>
                <a:lnTo>
                  <a:pt x="1691" y="1755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28600" y="2286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657960" y="4983120"/>
            <a:ext cx="91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rc 22"/>
          <p:cNvSpPr/>
          <p:nvPr/>
        </p:nvSpPr>
        <p:spPr>
          <a:xfrm>
            <a:off x="5410080" y="2668680"/>
            <a:ext cx="76320" cy="1226880"/>
          </a:xfrm>
          <a:custGeom>
            <a:avLst/>
            <a:gdLst>
              <a:gd name="textAreaLeft" fmla="*/ 0 w 76320"/>
              <a:gd name="textAreaRight" fmla="*/ 76320 w 763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fill="none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</a:path>
              <a:path stroke="0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3886200" y="3276720"/>
            <a:ext cx="609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536400" y="3801960"/>
            <a:ext cx="7548840" cy="1800"/>
          </a:xfrm>
          <a:custGeom>
            <a:avLst/>
            <a:gdLst>
              <a:gd name="textAreaLeft" fmla="*/ 0 w 7548840"/>
              <a:gd name="textAreaRight" fmla="*/ 7549200 w 75488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55" h="1">
                <a:moveTo>
                  <a:pt x="0" y="0"/>
                </a:moveTo>
                <a:lnTo>
                  <a:pt x="475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4484520" y="770040"/>
            <a:ext cx="14400" cy="5718240"/>
          </a:xfrm>
          <a:custGeom>
            <a:avLst/>
            <a:gdLst>
              <a:gd name="textAreaLeft" fmla="*/ 0 w 14400"/>
              <a:gd name="textAreaRight" fmla="*/ 14760 w 14400"/>
              <a:gd name="textAreaTop" fmla="*/ 0 h 5718240"/>
              <a:gd name="textAreaBottom" fmla="*/ 5718600 h 5718240"/>
            </a:gdLst>
            <a:ahLst/>
            <a:rect l="textAreaLeft" t="textAreaTop" r="textAreaRight" b="textAreaBottom"/>
            <a:pathLst>
              <a:path w="9" h="3602">
                <a:moveTo>
                  <a:pt x="0" y="0"/>
                </a:moveTo>
                <a:lnTo>
                  <a:pt x="9" y="3602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06000" y="-1080"/>
            <a:ext cx="19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759960" y="1957320"/>
            <a:ext cx="46051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360" y="3750480"/>
            <a:ext cx="846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03-17T10:30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